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E100-0427-4C9C-B36C-64828232C3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1D50-5924-42A2-95D4-8B9C2907C9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1679-689F-4F64-9A3A-B0B386EA5E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531B-9BFA-486F-AB00-A38E102279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A39B-1A20-4EFA-BB14-4D39526A99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638A-3EEB-437F-B55E-03AA0EB786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86E0-B30D-4D37-8FF4-4C22FCC16D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4B89-7EE5-4722-8662-D76155E065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B39B-40C4-4EBA-BAFE-098633F06C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B6E-B802-4150-B0A3-780C43D1E5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F04-ECE4-41FB-A44E-D2B51ADC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4AE-8B29-421E-B550-141CA9E6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675-B5A9-4811-BE54-05809D4D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E55-7E2A-4E52-9FB5-EFB2AE24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EF1B-61A4-4234-B3D0-DD22B1B6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6EED-4E21-41D8-ACD2-EAAA205E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1F39-64DE-43E1-A24F-B4D548A9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9613-AF84-433F-9C18-E2B44711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AE68-3708-4CA8-AAB8-6F4655C7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2D91-5A78-4E09-9683-F39AC79F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7E84-4880-4F83-8787-18B93C7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BCE-79F1-40B5-B300-6C8FA3EB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7E67-3AEF-40A2-951E-2F67EC14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D6BA-883C-4AE4-9751-87562193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2AFE-2A3F-4CBB-92CF-917AD661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3739-8AD8-4657-97A1-23B8D37A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C16B-F76A-4F7A-8619-D45A9320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3CD-3FB3-4236-8A3E-D6E8D3A9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EFF-5199-4A1C-BD07-6B033D78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9F1-CFBC-448A-82E4-28A92DBD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B31-8781-402F-A290-6A14372D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AD5-268C-4A2A-8E74-377BF723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DE1-FBC9-430B-943C-8B49D24F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1DE-A1CD-41BF-8279-BCF45445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CC8D-EBFD-4DD6-8524-55E93C973F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5E51-5B22-4712-A26D-60772DE082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З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43480" y="-305640"/>
            <a:ext cx="25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7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72943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7253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Б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643040" y="2071800"/>
            <a:ext cx="7385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6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6715080" cy="1643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643120" y="235728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499480" y="2286000"/>
            <a:ext cx="7146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285280" y="2214720"/>
            <a:ext cx="785880" cy="15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142360" y="221472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071800" y="242892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071080" y="271476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928960" y="2500200"/>
            <a:ext cx="35712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2"/>
          <p:cNvSpPr/>
          <p:nvPr/>
        </p:nvSpPr>
        <p:spPr>
          <a:xfrm>
            <a:off x="3071880" y="2428920"/>
            <a:ext cx="2858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2"/>
          <p:cNvSpPr/>
          <p:nvPr/>
        </p:nvSpPr>
        <p:spPr>
          <a:xfrm>
            <a:off x="35719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Соединительная линия уступом 44"/>
          <p:cNvCxnSpPr/>
          <p:nvPr/>
        </p:nvCxnSpPr>
        <p:spPr>
          <a:xfrm>
            <a:off x="35719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2" name="Прямая соединительная линия 46"/>
          <p:cNvSpPr/>
          <p:nvPr/>
        </p:nvSpPr>
        <p:spPr>
          <a:xfrm>
            <a:off x="35719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48"/>
          <p:cNvSpPr/>
          <p:nvPr/>
        </p:nvSpPr>
        <p:spPr>
          <a:xfrm>
            <a:off x="35719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50"/>
          <p:cNvSpPr/>
          <p:nvPr/>
        </p:nvSpPr>
        <p:spPr>
          <a:xfrm>
            <a:off x="35719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80"/>
          <p:cNvSpPr/>
          <p:nvPr/>
        </p:nvSpPr>
        <p:spPr>
          <a:xfrm>
            <a:off x="6000840" y="278604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2"/>
          <p:cNvSpPr/>
          <p:nvPr/>
        </p:nvSpPr>
        <p:spPr>
          <a:xfrm>
            <a:off x="6000840" y="292896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4"/>
          <p:cNvSpPr/>
          <p:nvPr/>
        </p:nvSpPr>
        <p:spPr>
          <a:xfrm>
            <a:off x="6000840" y="307188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6"/>
          <p:cNvSpPr/>
          <p:nvPr/>
        </p:nvSpPr>
        <p:spPr>
          <a:xfrm>
            <a:off x="6000840" y="321480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8"/>
          <p:cNvSpPr/>
          <p:nvPr/>
        </p:nvSpPr>
        <p:spPr>
          <a:xfrm>
            <a:off x="6000840" y="335772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90"/>
          <p:cNvSpPr/>
          <p:nvPr/>
        </p:nvSpPr>
        <p:spPr>
          <a:xfrm>
            <a:off x="6000840" y="3500280"/>
            <a:ext cx="107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04"/>
          <p:cNvSpPr/>
          <p:nvPr/>
        </p:nvSpPr>
        <p:spPr>
          <a:xfrm>
            <a:off x="592920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06"/>
          <p:cNvSpPr/>
          <p:nvPr/>
        </p:nvSpPr>
        <p:spPr>
          <a:xfrm>
            <a:off x="592920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8"/>
          <p:cNvSpPr/>
          <p:nvPr/>
        </p:nvSpPr>
        <p:spPr>
          <a:xfrm>
            <a:off x="592920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26"/>
          <p:cNvSpPr/>
          <p:nvPr/>
        </p:nvSpPr>
        <p:spPr>
          <a:xfrm flipH="1">
            <a:off x="371268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50"/>
          <p:cNvSpPr/>
          <p:nvPr/>
        </p:nvSpPr>
        <p:spPr>
          <a:xfrm flipH="1">
            <a:off x="75009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54"/>
          <p:cNvSpPr/>
          <p:nvPr/>
        </p:nvSpPr>
        <p:spPr>
          <a:xfrm flipH="1">
            <a:off x="76438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6"/>
          <p:cNvSpPr/>
          <p:nvPr/>
        </p:nvSpPr>
        <p:spPr>
          <a:xfrm flipH="1">
            <a:off x="778680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7155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785960" y="2071800"/>
            <a:ext cx="7183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857240" y="1785960"/>
            <a:ext cx="68580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643040" y="2500200"/>
            <a:ext cx="7373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928880" y="35712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3"/>
          <p:cNvSpPr/>
          <p:nvPr/>
        </p:nvSpPr>
        <p:spPr>
          <a:xfrm>
            <a:off x="3214800" y="357120"/>
            <a:ext cx="55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</a:rPr>
              <a:t>Какой ключ подойдет к замку? Соедини ключ с замк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2855880" cy="2643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997600" y="2214720"/>
            <a:ext cx="28605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12T19:23:08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